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4142-D30D-4693-A32E-F158F57A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83E-D118-482F-A12E-B767A47C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3EB-A395-47CB-8258-76CF1346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2DC-4826-4C60-96C2-A16AA7E1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CE3-3214-4DCB-8541-3EC47968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32FC-9EB8-47EE-B406-DDC42E43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374A-4D27-4BF3-B8E8-F9DCD3E4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A8D2-A208-475B-A8E0-FA541432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25B5-7034-4827-A7FA-8EB39A9F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9306-511F-4EC3-BB80-25D36EDD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53CD-9E1E-438D-B4A5-CB42DE63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F4E2-13C0-4AFF-9D4B-CB6602A7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0DA1-FF19-445F-92AA-5000E06BC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465e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4203436tgMgIzIxnz_ph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38680" y="0"/>
            <a:ext cx="3276720" cy="10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نا في المدينةِ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مشي مكتئبا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في قلبي خيبتي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نسابُ تائها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في آهات الضيقِ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بحثُ عن الطري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نت م كنت السبيلُ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لك قلبي يميل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3894622lnkCImSXrf_ph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72200" y="380880"/>
            <a:ext cx="2590920" cy="78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ظر لحال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ا في ض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 يا ربي ضمِّد جراح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دمك ربي دم الصد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8624513QCBBMr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05320" y="228600"/>
            <a:ext cx="5181480" cy="58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أين بهجتي في عالمٍ غري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سمع مناجاتي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في قلبي حري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أين بسمتي والآمال تغيب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نت من يدوم أرجوك يا حبيب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894622lnkCImSXrf_ph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72200" y="380880"/>
            <a:ext cx="2590920" cy="78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ظر لحال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ا في ض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 يا ربي ضمِّد جراح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دمك ربي دم الصد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ildelsken" descr=""/>
          <p:cNvPicPr/>
          <p:nvPr/>
        </p:nvPicPr>
        <p:blipFill>
          <a:blip r:embed="rId1"/>
          <a:stretch/>
        </p:blipFill>
        <p:spPr>
          <a:xfrm>
            <a:off x="-1758960" y="0"/>
            <a:ext cx="6178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28600"/>
            <a:ext cx="3504960" cy="76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أين فرحتي والأطفال جي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أين ضحكتي والعالم في ضي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فبدد ظلمتي بوجهك المني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فأنت النور الحقُّ أرجوك يا قدي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3894622lnkCImSXrf_ph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380880"/>
            <a:ext cx="2590920" cy="78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ظر لحال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ا في ض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 يا ربي ضمِّد جراح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دمك ربي دم الصد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7731617KWXnreKPiA_th" descr=""/>
          <p:cNvPicPr/>
          <p:nvPr/>
        </p:nvPicPr>
        <p:blipFill>
          <a:blip r:embed="rId1"/>
          <a:stretch/>
        </p:blipFill>
        <p:spPr>
          <a:xfrm>
            <a:off x="-21420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4120" y="0"/>
            <a:ext cx="3352680" cy="10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رجائي أمل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في رهبةِ الظلا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أنت متكل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في غمرة الآل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وأنت قُدوت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في حملك الصل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فإليك ذاتي اقبله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أرجوك يا حب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3894622lnkCImSXrf_ph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72200" y="380880"/>
            <a:ext cx="2590920" cy="78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ظر لحال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ا في ض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 يا ربي ضمِّد جراح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دمك ربي دم الصد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0:41:19Z</dcterms:created>
  <dc:creator>USER</dc:creator>
  <dc:description/>
  <dc:language>en-US</dc:language>
  <cp:lastModifiedBy>USER</cp:lastModifiedBy>
  <dcterms:modified xsi:type="dcterms:W3CDTF">2002-11-19T10:49:07Z</dcterms:modified>
  <cp:revision>4</cp:revision>
  <dc:subject/>
  <dc:title>PowerPoint Presentation</dc:title>
</cp:coreProperties>
</file>